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FAE-0DD3-4262-B5E1-B2B84027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764-546B-4549-93FF-BC54902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77E-E78A-4FEC-97FE-D2F79463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96F-DECB-4B94-B238-B361D0EE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23F6-99D7-419B-B91E-9B9E94D5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234-E14D-46FF-ABC0-2F1C0255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2EEA-7AE5-4738-B1E8-A78122EE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DDC4-ECE0-4793-8922-5CDB91C0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77E-EB46-483B-B631-C39AF4E5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5E18-DBA9-45E1-BD40-226B3A5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A2AF-F73D-4EB9-8386-C5103CFF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CB2-9110-440C-8637-2E318B20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4655-06F1-44E9-BA19-DC904D3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A62F-23CA-40F1-94CD-DA1B6B5C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A2AA-3861-4F67-873C-9665FF7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2A1C-C057-4E4A-BDD3-A7151ACA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2A5D-E36C-40B6-87DF-9845E041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33E-FC38-49AE-8DAC-AB79A87F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45B-C8D4-431C-AE7B-12171428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764-21F5-4209-88C6-A6374EC5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162000"/>
            <a:ext cx="77709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605-28FA-4416-8C25-21D0ABAD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65F-7C98-4E98-8293-1CA174E3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BD8-1687-4D8C-BE08-51B5D3A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EB7-C05A-483E-B972-CD4942F0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62000"/>
            <a:ext cx="77709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D0DA40-8B9E-4B3E-81E9-030F2DD777F3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AE87EC-628B-43B7-B38F-CAE2742914DA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eografianair9.blogspot.com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6792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0033"/>
                </a:solidFill>
                <a:latin typeface="Times New Roman"/>
              </a:rPr>
              <a:t>Escola Estadual Profª. Nair Palácio de Souza</a:t>
            </a:r>
            <a:br>
              <a:rPr sz="2400"/>
            </a:br>
            <a:r>
              <a:rPr b="1" lang="pt-BR" sz="2400" spc="-1" strike="noStrike">
                <a:solidFill>
                  <a:srgbClr val="330033"/>
                </a:solidFill>
                <a:latin typeface="Times New Roman"/>
              </a:rPr>
              <a:t>apresenta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4038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 DOS PROFESSORES DA SALA DE TECNOLOGIAS EDUCACION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 ENCONTRO- PSTE -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800" y="-18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20720" y="3246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59277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va Andradina-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stagens de cronogramas dos Projetos Realizados na esco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crib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www.scribd.com/doc/15279034/Cancer-a-prevencao-e-o-melhor-reme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www.scribd.com/doc/13844646/PROJETOAGUAE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www.scribd.com/doc/16786131/Projeto-Figuras-geomet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fessores participa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638680" y="4229280"/>
            <a:ext cx="2884680" cy="21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2540160" cy="2076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2997360" cy="184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85800" y="4038480"/>
            <a:ext cx="2590920" cy="21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urso Atac I e Linu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31040" y="1600200"/>
            <a:ext cx="24638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581280" y="152244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49320" y="2746440"/>
            <a:ext cx="2387520" cy="2190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613320" y="4525920"/>
            <a:ext cx="2286000" cy="1792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6402240" y="3886200"/>
            <a:ext cx="2311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da STE da E.E. Profª Nair Palácio de Souza agradecem a todos os participantes desse projeto e espera no 2º semestre a adesão de todos os professores, para a construção de suas páginas, seus sites, blogs, enfim, que façam da WEB um meio de comunicação e transmissão de conhecimentos aos seus alu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330033"/>
                </a:solidFill>
                <a:latin typeface="Times New Roman"/>
              </a:rPr>
              <a:t>PROJETO: NAIR PALÁCIO NA WEB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senvolvido no 1º semestre do ano letivo de 2009 pelos professores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ernando Milhorança, José Marcelo Gomes e Marina Alessandra de Oliveira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tuantes e responsáveis pel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ala de Tecnologias Educa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cola Estadual Profª. Nair Palácio de Sou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colha deste projeto tem como principal finalidade a oportunização do conhecimento tecnológico para todos os regentes de nossa escola, possibilitando o acesso a novas formas de transmissão de conhecimento atravé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tecnologias, tais como: blog, wikispaces, Pral, MSN e outras ferramentas indispensáveis para o uso adequado da Sala de Tecnolo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tividades a serem desenvolvidas neste projeto contemplam a capacitação do professor regente, já que em nossa escola a maioria dos professores alega não possuir tempo disponível para participar dos cursos ofertados pela STE e como a troca de experiências virtuais com os professores da STE é indispensável, procuramos valorizar os conhecimentos prévios que a maioria já adquiriu e inovar as formas de relação com as novidades tecnológicas, este projeto visa então atender cada professor regente individualmente nas tarefas que este mais tiver interesse em apre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enderá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es Regentes da Educação Bás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tores da Escola Estadual Profª. Nair Palácio de Sou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ivo Ge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citar nossos professores, coordenadores e gestores disponibilizando o acesso ao ensino-aprendizagem relacionados ao uso das tecnologias e webtecnologias, e desenvolvendo atividades sob orientação dos Professores da STE, junto aos docentes da escola, dando suporte e orientação nos projetos por eles desenvolvidos e aplicados no dia a dia da rotina esco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ivos Específ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7142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284120"/>
                <a:tab algn="l" pos="2198520"/>
                <a:tab algn="l" pos="3112920"/>
                <a:tab algn="l" pos="4027320"/>
                <a:tab algn="l" pos="4941720"/>
                <a:tab algn="l" pos="5856120"/>
                <a:tab algn="l" pos="6770520"/>
                <a:tab algn="l" pos="7684920"/>
                <a:tab algn="l" pos="8599320"/>
                <a:tab algn="l" pos="951372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ntivar o uso adequado da Sala de Tecnologias Educacionais valorizando o processo de ensino-aprendiz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284120"/>
                <a:tab algn="l" pos="2198520"/>
                <a:tab algn="l" pos="3112920"/>
                <a:tab algn="l" pos="4027320"/>
                <a:tab algn="l" pos="4941720"/>
                <a:tab algn="l" pos="5856120"/>
                <a:tab algn="l" pos="6770520"/>
                <a:tab algn="l" pos="7684920"/>
                <a:tab algn="l" pos="8599320"/>
                <a:tab algn="l" pos="951372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ir e alimentar dentro da rede virtual sites, blogs, páginas na internet que possibilitem a interação entre professor da STE, professor regente e alu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284120"/>
                <a:tab algn="l" pos="2198520"/>
                <a:tab algn="l" pos="3112920"/>
                <a:tab algn="l" pos="4027320"/>
                <a:tab algn="l" pos="4941720"/>
                <a:tab algn="l" pos="5856120"/>
                <a:tab algn="l" pos="6770520"/>
                <a:tab algn="l" pos="7684920"/>
                <a:tab algn="l" pos="8599320"/>
                <a:tab algn="l" pos="951372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entar e dar suporte técnico-pedagógico na elaboração e realização de projetos educacionais voltados ao uso das novas tecnolo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284120"/>
                <a:tab algn="l" pos="2198520"/>
                <a:tab algn="l" pos="3112920"/>
                <a:tab algn="l" pos="4027320"/>
                <a:tab algn="l" pos="4941720"/>
                <a:tab algn="l" pos="5856120"/>
                <a:tab algn="l" pos="6770520"/>
                <a:tab algn="l" pos="7684920"/>
                <a:tab algn="l" pos="8599320"/>
                <a:tab algn="l" pos="951372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r o nome da escola na Web, tornando público todos os trabalhos, projetos, aulas desenvolvidos na Sala de Tecnologias Educacionais, promovendo assim o reconhecimento da comunidade pelas nossas ações educac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330033"/>
                </a:solidFill>
                <a:latin typeface="Times New Roman"/>
              </a:rPr>
              <a:t>Sites e blogs desenvolvidos pelos por professores regentes no ambiente da STE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sta de endereços eletrônicos disponibilizados pela Escola Estadual Profª Nair Palácio de Souza na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escolanairpalacio.blogspot.com/=&gt; Divulga todos os projetos, eventos da escola, aulas na Sala de Tecnologias Educacionais, além de atuar como página principal, onde se encontra todos os outros blogs em forma de links a serem acess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jornalvirtualnairpalaciodesouza.blogspot.com/=&gt; Blog criado pela Profª Andréia Erdman para divulgação das produções textuais, aulas interessantes, notícias e novidades relacionadas ao uso da Língua Portugu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jetoaguaevida.blogspot.com/=&gt; Blog criado para postagem de todas as atividades desenvolvidas no Projeto: Água e Vida, desenvolvido no 1º Bimestre pelos professores da área de Ciências Humanas 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geografianair8.blogspot.com /=&gt; Blog criado com a finalidade de postagens das atividades a serem trabalhadas pelo professor Adevair, na disciplina de Geografia, divulgação de conteúdo para avaliações, gabaritos de provas realizadas, sugestões de sites para pesquisas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geografianair9.blogspot.com/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&gt; Blog criado com a finalidade de postagens das atividades a serem trabalhadas pelo professor Adevair, na disciplina de Geografia, divulgação de conteúdo para avaliações, gabaritos de provas realizadas, sugestões de sites para pesquisas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neidesociologianair.blogspot.com/=&gt; Espaço destinado a postagens de vídeos, slides, textos produzidos pelos alunos da Profª Neide Rosenbaum, na disciplina de Sociologia, com maior destaque para o projeto: “Solidariedad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profmarciafilo.blogspot.com/=&gt; Espaço destinado a postagens de vídeos, slides, textos produzidos pelos alunos da Profª Márcia Guimarães, na disciplina de Filosof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professoramarina.blogspot.com/=&gt; Espaço destinado a postagens de slides, vídeos, conteúdos relativos às disciplinas de Língua Portuguesa e Literatura, criado pela Profª Marina, atuante na Sala de Tecnologias Educ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áginas no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f-nair-palacio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icoli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kennedyab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teachermarina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consumoconsciente01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jetoeletricidade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fkelle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lslnb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marcelogome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rosenbaum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jandrey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tecnicomarketing.wikispaces.co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info</cp:lastModifiedBy>
  <cp:revision>0</cp:revision>
  <dc:subject/>
  <dc:title>PowerPoint Presentation</dc:title>
</cp:coreProperties>
</file>